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gif" ContentType="image/gif"/>
  <Override PartName="/ppt/media/image7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chimes.wav" ContentType="audio/x-wav"/>
  <Override PartName="/ppt/media/image8.png" ContentType="image/png"/>
  <Override PartName="/ppt/media/image9.png" ContentType="image/png"/>
  <Override PartName="/ppt/media/104.WAV" ContentType="audio/x-wav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DD8-2926-4E23-BC9B-2BDCA81B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D9A-3480-4A47-969B-328CC384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1C5-424A-4ED6-88C8-CDC44B6B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93A-81AD-4B27-A0DC-3F7653BB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A7AF-3981-436D-A67D-6C0A69B2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6B06-AFC2-4BE5-A853-B2C1CAF3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7B03-EF92-4C5F-843C-00849F69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0A81-A0E8-4086-8D8E-F189A1F3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950B-9895-496D-9CD0-AAF9B98D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3DBC-C4D5-4851-BB18-2E4FB00A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E0F2-C573-43D3-BFC5-30CA8B2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051-EAE4-41E1-9547-CD94870C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A4D5-5616-4894-B571-E67AFF8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A831-05C5-4E32-9715-662454F9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54CB-A756-4C72-AA12-7D0BCA41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D350-1F26-4BC9-A61A-9DB51F5F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A6A-EBE5-41B9-A641-E1C6F68E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335F-5327-44DB-A838-394B49D9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AA08-1F23-46ED-8C86-A611806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45A2-AF8D-4627-9636-C55282C9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5DBF-CF44-4728-BB32-71FF947E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F6BE-FD08-4E21-9930-FF27B12C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5D4-2726-4809-93C1-4A64ADA9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EA88-6279-4DA2-953F-04B09A8F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3C56-720C-455D-82FD-D7CB9A7F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619F-F4F1-411B-B57B-7F7371A7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4819-B35E-4951-912E-EC5E13F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5AF6-BF2D-4C20-B9FA-92F4549C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3F98-26C4-4703-A979-85B2EF4F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26F8-459D-4EDA-8EDD-CF30B2B4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37BBF-9C66-4D9D-A7D7-00783D59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D4782-ED4B-4579-877B-5876DC56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246A-38C3-4C2B-99A2-CA4D3A1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62B-168A-48F6-8859-E9BBF065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2890E-F437-44E1-B931-2705AD2C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F45B-6EDF-49B2-B4A3-5C8B7DF2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0305-E540-4C9B-9144-AE17EDFB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7B6EA-8FCB-4593-844D-B271673D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1E126-EC06-4B76-89F0-2DE3931C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663BB-9841-49ED-A818-F980E83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02B9C-9737-44F6-B9AE-FB386486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677C-A6BE-4AF5-BAC3-66B47AFE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87CC5-4D91-409A-AB21-C1840443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16578-EFA7-4B9A-8312-6C20FF0C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623-07E2-4243-95CF-AE360DF5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C62B-20DD-4969-A7C7-BAC34575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19E6-63F9-49FB-B7BC-621B8E4E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73892-A16E-4C5E-851C-C38F441B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16378-4E3B-4E12-B92F-689E8B1F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9ADB-4BB4-4852-90DD-EA340EEA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63560-77BB-4A12-B33E-A4DFA99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2559A-FB8B-4735-A41A-B2C36DE3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E455-541D-4044-90E2-5D53CBBE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F592B-C600-41A2-9394-D780D734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B0270-CFDC-492E-9AF4-E8187232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A5B-35D7-495E-B371-BC5E7F2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07900-98A5-4822-9664-3601F0A3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E45-8024-4061-89CA-CF74029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80F-F839-49F7-BAA6-16B4FCBD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50B-0C94-48CE-ACEA-10D7E9C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0B5C-33B6-4580-9EE6-4E1D140E5CB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F254-0945-449B-BC76-759A59926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161F-2142-479F-B13E-5A8EEB1E13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152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81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556B-4EB8-41D9-AFFD-F396454A41E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224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C3A3-0A04-467B-AD3A-F5AB9896307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104.WAV"/><Relationship Id="rId3" Type="http://schemas.openxmlformats.org/officeDocument/2006/relationships/audio" Target="../media/104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7280" y="2205000"/>
            <a:ext cx="6334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华文行楷"/>
                <a:ea typeface="华文行楷"/>
              </a:rPr>
              <a:t>16.3   </a:t>
            </a:r>
            <a:r>
              <a:rPr b="0" lang="zh-CN" sz="6000" spc="-1" strike="noStrike">
                <a:solidFill>
                  <a:srgbClr val="003366"/>
                </a:solidFill>
                <a:latin typeface="华文行楷"/>
                <a:ea typeface="华文行楷"/>
              </a:rPr>
              <a:t>分式方程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152280" y="762120"/>
            <a:ext cx="8842320" cy="598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`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181080" y="152280"/>
            <a:ext cx="8842320" cy="609840"/>
          </a:xfrm>
          <a:prstGeom prst="rect">
            <a:avLst/>
          </a:prstGeom>
          <a:solidFill>
            <a:srgbClr val="9966ff"/>
          </a:solidFill>
          <a:ln w="57240">
            <a:solidFill>
              <a:srgbClr val="9966ff"/>
            </a:solidFill>
            <a:miter/>
          </a:ln>
          <a:effectLst>
            <a:outerShdw dist="153753" dir="2700000" blurRad="0" rotWithShape="0">
              <a:srgbClr val="5c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228600" y="847800"/>
            <a:ext cx="8372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例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3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】</a:t>
            </a:r>
            <a:r>
              <a:rPr b="0" lang="zh-CN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两个工程队共同参与一项筑路工程，甲队单独施工一个月完成总工程的三分之一，这时增加了乙队，两队又共同工作了半个月，总工程全部完成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.  </a:t>
            </a:r>
            <a:r>
              <a:rPr b="0" lang="zh-CN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哪个队的施工速度快？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304920" y="152280"/>
            <a:ext cx="281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隶书"/>
                <a:ea typeface="隶书"/>
              </a:rPr>
              <a:t>分式方程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439200" y="274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细黑"/>
              </a:rPr>
              <a:t>解：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010760" y="2782800"/>
            <a:ext cx="127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设乙队如果单独施工一个月能完成总工程的      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8"/>
              <p:cNvSpPr txBox="1"/>
              <p:nvPr/>
            </p:nvSpPr>
            <p:spPr>
              <a:xfrm>
                <a:off x="7553160" y="2585880"/>
                <a:ext cx="4194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Text Box 9"/>
          <p:cNvSpPr/>
          <p:nvPr/>
        </p:nvSpPr>
        <p:spPr>
          <a:xfrm>
            <a:off x="1110240" y="3230640"/>
            <a:ext cx="309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记总工程量为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，根据题意，得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10"/>
              <p:cNvSpPr txBox="1"/>
              <p:nvPr/>
            </p:nvSpPr>
            <p:spPr>
              <a:xfrm>
                <a:off x="2133720" y="3576600"/>
                <a:ext cx="3934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1"/>
              <p:cNvSpPr txBox="1"/>
              <p:nvPr/>
            </p:nvSpPr>
            <p:spPr>
              <a:xfrm>
                <a:off x="2536920" y="3591000"/>
                <a:ext cx="7160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2"/>
              <p:cNvSpPr txBox="1"/>
              <p:nvPr/>
            </p:nvSpPr>
            <p:spPr>
              <a:xfrm>
                <a:off x="3222720" y="3608280"/>
                <a:ext cx="10033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Text Box 13"/>
          <p:cNvSpPr/>
          <p:nvPr/>
        </p:nvSpPr>
        <p:spPr>
          <a:xfrm>
            <a:off x="4254840" y="3943440"/>
            <a:ext cx="6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775080" y="47242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解之得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5"/>
              <p:cNvSpPr txBox="1"/>
              <p:nvPr/>
            </p:nvSpPr>
            <p:spPr>
              <a:xfrm>
                <a:off x="2038320" y="4694400"/>
                <a:ext cx="10857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Text Box 16"/>
          <p:cNvSpPr/>
          <p:nvPr/>
        </p:nvSpPr>
        <p:spPr>
          <a:xfrm>
            <a:off x="1076040" y="5272200"/>
            <a:ext cx="34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经检验知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x</a:t>
            </a:r>
            <a:r>
              <a:rPr b="1" i="1" lang="en-US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= 1 </a:t>
            </a: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是原方程的解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3463560" y="5743440"/>
            <a:ext cx="213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由上可知，若乙队单独工作一个月可以完成全部任务，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所以乙队施工速度快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152280" y="762120"/>
            <a:ext cx="8842320" cy="598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`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181080" y="152280"/>
            <a:ext cx="8842320" cy="609840"/>
          </a:xfrm>
          <a:prstGeom prst="rect">
            <a:avLst/>
          </a:prstGeom>
          <a:solidFill>
            <a:srgbClr val="9966ff"/>
          </a:solidFill>
          <a:ln w="57240">
            <a:solidFill>
              <a:srgbClr val="9966ff"/>
            </a:solidFill>
            <a:miter/>
          </a:ln>
          <a:effectLst>
            <a:outerShdw dist="153753" dir="2700000" blurRad="0" rotWithShape="0">
              <a:srgbClr val="5c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228600" y="847800"/>
            <a:ext cx="83725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例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】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从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2004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年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月起某列车平均提速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v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小时，用相同的时间，列车提速前行驶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s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千米，提速后比提速前多行驶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千米，提速前列车的平均速度为多少？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304920" y="152280"/>
            <a:ext cx="281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隶书"/>
                <a:ea typeface="隶书"/>
              </a:rPr>
              <a:t>分式方程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3" name="Picture 2" descr="Flower326"/>
          <p:cNvPicPr/>
          <p:nvPr/>
        </p:nvPicPr>
        <p:blipFill>
          <a:blip r:embed="rId1"/>
          <a:stretch/>
        </p:blipFill>
        <p:spPr>
          <a:xfrm>
            <a:off x="-76320" y="1440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3"/>
          <p:cNvSpPr/>
          <p:nvPr/>
        </p:nvSpPr>
        <p:spPr>
          <a:xfrm>
            <a:off x="3624480" y="258120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00"/>
                </a:solidFill>
                <a:latin typeface="Times New Roman"/>
                <a:ea typeface="隶书"/>
              </a:rPr>
              <a:t>谢谢！</a:t>
            </a:r>
            <a:endParaRPr b="0" lang="en-US" sz="1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1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xit" presetID="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104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90" dur="5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826920" y="538200"/>
            <a:ext cx="820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    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一艘轮船在静水中的最大航速为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20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千米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/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时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它沿江以最大航速顺流航行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100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千米所用时间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,  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与以最大航速航行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60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千米所用时间相等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, 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江水的流速为多少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913680" y="29098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43080" y="13032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方正姚体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584800" y="2960640"/>
            <a:ext cx="427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设江水的流速为 </a:t>
            </a:r>
            <a:r>
              <a:rPr b="1" i="1" lang="en-US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v </a:t>
            </a:r>
            <a:r>
              <a:rPr b="1" lang="zh-CN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千米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时，根据题意，得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2987640" y="3557520"/>
                <a:ext cx="29527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AutoShape 7"/>
          <p:cNvSpPr/>
          <p:nvPr/>
        </p:nvSpPr>
        <p:spPr>
          <a:xfrm>
            <a:off x="4427640" y="5445000"/>
            <a:ext cx="4321080" cy="1079640"/>
          </a:xfrm>
          <a:prstGeom prst="wedgeEllipseCallout">
            <a:avLst>
              <a:gd name="adj1" fmla="val -40666"/>
              <a:gd name="adj2" fmla="val -9808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华文细黑"/>
                <a:ea typeface="华文细黑"/>
              </a:rPr>
              <a:t>分母中含未知数的方程叫做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</a:rPr>
              <a:t> 分式方程</a:t>
            </a:r>
            <a:r>
              <a:rPr b="1" lang="en-US" sz="2400" spc="-1" strike="noStrike">
                <a:solidFill>
                  <a:srgbClr val="006600"/>
                </a:solidFill>
                <a:latin typeface="华文细黑"/>
                <a:ea typeface="华文细黑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684360" y="0"/>
            <a:ext cx="84596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1042920" y="260280"/>
            <a:ext cx="4248360" cy="954720"/>
            <a:chOff x="1042920" y="260280"/>
            <a:chExt cx="4248360" cy="954720"/>
          </a:xfrm>
        </p:grpSpPr>
        <p:sp>
          <p:nvSpPr>
            <p:cNvPr id="304" name="Text Box 4"/>
            <p:cNvSpPr/>
            <p:nvPr/>
          </p:nvSpPr>
          <p:spPr>
            <a:xfrm>
              <a:off x="1042920" y="476280"/>
              <a:ext cx="160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方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05" name="Group 5"/>
            <p:cNvGrpSpPr/>
            <p:nvPr/>
          </p:nvGrpSpPr>
          <p:grpSpPr>
            <a:xfrm>
              <a:off x="2647800" y="260280"/>
              <a:ext cx="2643480" cy="954720"/>
              <a:chOff x="2647800" y="260280"/>
              <a:chExt cx="2643480" cy="954720"/>
            </a:xfrm>
          </p:grpSpPr>
          <p:grpSp>
            <p:nvGrpSpPr>
              <p:cNvPr id="306" name="Group 6"/>
              <p:cNvGrpSpPr/>
              <p:nvPr/>
            </p:nvGrpSpPr>
            <p:grpSpPr>
              <a:xfrm>
                <a:off x="2647800" y="273240"/>
                <a:ext cx="962640" cy="941760"/>
                <a:chOff x="2647800" y="273240"/>
                <a:chExt cx="962640" cy="941760"/>
              </a:xfrm>
            </p:grpSpPr>
            <p:sp>
              <p:nvSpPr>
                <p:cNvPr id="307" name="Text Box 7"/>
                <p:cNvSpPr/>
                <p:nvPr/>
              </p:nvSpPr>
              <p:spPr>
                <a:xfrm>
                  <a:off x="2647800" y="273240"/>
                  <a:ext cx="962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x-1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8"/>
                <p:cNvSpPr/>
                <p:nvPr/>
              </p:nvSpPr>
              <p:spPr>
                <a:xfrm>
                  <a:off x="2647800" y="704880"/>
                  <a:ext cx="799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Text Box 9"/>
                <p:cNvSpPr/>
                <p:nvPr/>
              </p:nvSpPr>
              <p:spPr>
                <a:xfrm>
                  <a:off x="2806560" y="633600"/>
                  <a:ext cx="319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Group 10"/>
              <p:cNvGrpSpPr/>
              <p:nvPr/>
            </p:nvGrpSpPr>
            <p:grpSpPr>
              <a:xfrm>
                <a:off x="4250520" y="260280"/>
                <a:ext cx="1040760" cy="940320"/>
                <a:chOff x="4250520" y="260280"/>
                <a:chExt cx="1040760" cy="940320"/>
              </a:xfrm>
            </p:grpSpPr>
            <p:sp>
              <p:nvSpPr>
                <p:cNvPr id="311" name="Line 11"/>
                <p:cNvSpPr/>
                <p:nvPr/>
              </p:nvSpPr>
              <p:spPr>
                <a:xfrm>
                  <a:off x="4411080" y="706320"/>
                  <a:ext cx="72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Text Box 12"/>
                <p:cNvSpPr/>
                <p:nvPr/>
              </p:nvSpPr>
              <p:spPr>
                <a:xfrm>
                  <a:off x="4250520" y="260280"/>
                  <a:ext cx="104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x+3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Text Box 13"/>
                <p:cNvSpPr/>
                <p:nvPr/>
              </p:nvSpPr>
              <p:spPr>
                <a:xfrm>
                  <a:off x="4490640" y="619200"/>
                  <a:ext cx="72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6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Text Box 14"/>
              <p:cNvSpPr/>
              <p:nvPr/>
            </p:nvSpPr>
            <p:spPr>
              <a:xfrm>
                <a:off x="3529440" y="401760"/>
                <a:ext cx="88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-1=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Text Box 15"/>
          <p:cNvSpPr/>
          <p:nvPr/>
        </p:nvSpPr>
        <p:spPr>
          <a:xfrm>
            <a:off x="1042920" y="11253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解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去分母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方程两边都乘以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2554200" y="16286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3(2x-1)-6=2x+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1258920" y="22622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去括号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2987640" y="2262240"/>
            <a:ext cx="25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6x-3-6=2x+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1332000" y="28843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移项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Text Box 20"/>
          <p:cNvSpPr/>
          <p:nvPr/>
        </p:nvSpPr>
        <p:spPr>
          <a:xfrm>
            <a:off x="3203640" y="29098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6x-2x=3+3+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1258920" y="34844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合并同类项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Text Box 22"/>
          <p:cNvSpPr/>
          <p:nvPr/>
        </p:nvSpPr>
        <p:spPr>
          <a:xfrm>
            <a:off x="3708360" y="34704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4x=1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Text Box 23"/>
          <p:cNvSpPr/>
          <p:nvPr/>
        </p:nvSpPr>
        <p:spPr>
          <a:xfrm>
            <a:off x="1258920" y="41338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系数化为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1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Text Box 24"/>
          <p:cNvSpPr/>
          <p:nvPr/>
        </p:nvSpPr>
        <p:spPr>
          <a:xfrm>
            <a:off x="3924360" y="41180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x=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611280" y="51703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解一元一次方程的一般步骤是什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3"/>
          <p:cNvSpPr/>
          <p:nvPr/>
        </p:nvSpPr>
        <p:spPr>
          <a:xfrm>
            <a:off x="152280" y="152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华文中宋"/>
                <a:ea typeface="华文中宋"/>
              </a:rPr>
              <a:t>※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可化为一元一次方程的分式方程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2"/>
              <p:cNvSpPr txBox="1"/>
              <p:nvPr/>
            </p:nvSpPr>
            <p:spPr>
              <a:xfrm>
                <a:off x="838080" y="838080"/>
                <a:ext cx="32004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AutoShape 20"/>
          <p:cNvSpPr/>
          <p:nvPr/>
        </p:nvSpPr>
        <p:spPr>
          <a:xfrm>
            <a:off x="961920" y="2133720"/>
            <a:ext cx="4114800" cy="2133360"/>
          </a:xfrm>
          <a:prstGeom prst="wedgeEllipseCallout">
            <a:avLst>
              <a:gd name="adj1" fmla="val -33449"/>
              <a:gd name="adj2" fmla="val -5409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分析：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去分母，使分式方程化成整式方程，再用整式方程的解法去解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29" name="Object 35"/>
          <p:cNvGraphicFramePr/>
          <p:nvPr/>
        </p:nvGraphicFramePr>
        <p:xfrm>
          <a:off x="304920" y="1916280"/>
          <a:ext cx="8534160" cy="23619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30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16280"/>
                    <a:ext cx="85341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6"/>
          <p:cNvGraphicFramePr/>
          <p:nvPr/>
        </p:nvGraphicFramePr>
        <p:xfrm>
          <a:off x="304920" y="4278240"/>
          <a:ext cx="8534160" cy="251460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332" name="Object 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278240"/>
                    <a:ext cx="85341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3" name="Object 24"/>
              <p:cNvSpPr txBox="1"/>
              <p:nvPr/>
            </p:nvSpPr>
            <p:spPr>
              <a:xfrm>
                <a:off x="2895480" y="376200"/>
                <a:ext cx="19558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Text Box 25"/>
          <p:cNvSpPr/>
          <p:nvPr/>
        </p:nvSpPr>
        <p:spPr>
          <a:xfrm>
            <a:off x="304920" y="152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再看分式方程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304920" y="1523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在方程的两边都乘以最简公分母 </a:t>
            </a: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( x+1)( x – 1 )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,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得到整式方程：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2895480" y="22096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x + 1 = 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457200" y="2666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解这个整式方程，得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Text Box 29"/>
          <p:cNvSpPr/>
          <p:nvPr/>
        </p:nvSpPr>
        <p:spPr>
          <a:xfrm>
            <a:off x="3048120" y="32767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x =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Text Box 30"/>
          <p:cNvSpPr/>
          <p:nvPr/>
        </p:nvSpPr>
        <p:spPr>
          <a:xfrm>
            <a:off x="685800" y="3809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把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 = 1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代入原分式方程检验：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1"/>
              <p:cNvSpPr txBox="1"/>
              <p:nvPr/>
            </p:nvSpPr>
            <p:spPr>
              <a:xfrm>
                <a:off x="1371600" y="4491000"/>
                <a:ext cx="25146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、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Text Box 32"/>
          <p:cNvSpPr/>
          <p:nvPr/>
        </p:nvSpPr>
        <p:spPr>
          <a:xfrm>
            <a:off x="3733920" y="4724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的分母的值都为零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Text Box 33"/>
          <p:cNvSpPr/>
          <p:nvPr/>
        </p:nvSpPr>
        <p:spPr>
          <a:xfrm>
            <a:off x="380880" y="60958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实际上原分式方程无解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Text Box 37"/>
          <p:cNvSpPr/>
          <p:nvPr/>
        </p:nvSpPr>
        <p:spPr>
          <a:xfrm>
            <a:off x="5318280" y="4692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Text Box 39"/>
          <p:cNvSpPr/>
          <p:nvPr/>
        </p:nvSpPr>
        <p:spPr>
          <a:xfrm>
            <a:off x="380880" y="5486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这两个分式都无意义，因此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1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不是原分式方程的根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2"/>
          <p:cNvGrpSpPr/>
          <p:nvPr/>
        </p:nvGrpSpPr>
        <p:grpSpPr>
          <a:xfrm>
            <a:off x="304920" y="533520"/>
            <a:ext cx="7448400" cy="685800"/>
            <a:chOff x="304920" y="533520"/>
            <a:chExt cx="7448400" cy="685800"/>
          </a:xfrm>
        </p:grpSpPr>
        <p:sp>
          <p:nvSpPr>
            <p:cNvPr id="346" name="Rectangle 2"/>
            <p:cNvSpPr/>
            <p:nvPr/>
          </p:nvSpPr>
          <p:spPr>
            <a:xfrm>
              <a:off x="304920" y="533520"/>
              <a:ext cx="5333760" cy="685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Text Box 4"/>
            <p:cNvSpPr/>
            <p:nvPr/>
          </p:nvSpPr>
          <p:spPr>
            <a:xfrm>
              <a:off x="380880" y="533520"/>
              <a:ext cx="7372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解分式方程的一般步骤：</a:t>
              </a:r>
              <a:endParaRPr b="0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48" name="Text Box 21"/>
          <p:cNvSpPr/>
          <p:nvPr/>
        </p:nvSpPr>
        <p:spPr>
          <a:xfrm>
            <a:off x="304920" y="1752480"/>
            <a:ext cx="8534160" cy="289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</a:rPr>
              <a:t>在方程的两边都 乘以最简公分母，约去分母，化成整式方程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</a:rPr>
              <a:t>解这个整式方程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</a:rPr>
              <a:t>把整式方程的根代入最简公分母，每结果是不是为零，使最简公分母为零的根是原方程的增根，必须舍去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</a:rPr>
              <a:t>写出原方程的根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tangle 23"/>
          <p:cNvSpPr/>
          <p:nvPr/>
        </p:nvSpPr>
        <p:spPr>
          <a:xfrm>
            <a:off x="1332000" y="602136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页脚占位符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811880" y="457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解方程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3048120" y="304920"/>
                <a:ext cx="2514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Text Box 5"/>
          <p:cNvSpPr/>
          <p:nvPr/>
        </p:nvSpPr>
        <p:spPr>
          <a:xfrm>
            <a:off x="304920" y="1600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解：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219320" y="1600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方程两边都乘以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( x – 2 ) ,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约去分母，得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819520" y="22096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5 ( x – 2 ) = 7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1295280" y="2971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解这个整式方程，得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2895480" y="3581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= – 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1143000" y="4221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检验：当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= – 5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时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1752480" y="4952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( x – 2 ) = (– 5)(– 5 – 2) = 35 ≠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1143000" y="5715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所以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–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5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是原方程的根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380880" y="533520"/>
            <a:ext cx="854280" cy="4899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例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页脚占位符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0880" y="533520"/>
            <a:ext cx="854280" cy="4899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例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811880" y="547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99"/>
                </a:solidFill>
                <a:latin typeface="Times New Roman"/>
                <a:ea typeface="宋体"/>
              </a:rPr>
              <a:t>解方程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3048120" y="322200"/>
                <a:ext cx="30225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304920" y="1600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解：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219320" y="1600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方程两边都乘以  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( x – 2 ) ,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约去分母，得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2819520" y="23623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1 =  x – 1– 3( x – 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295280" y="31543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解这个整式方程，得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2895480" y="38862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=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1447920" y="4572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检验：当 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x = 2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时，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x – 2 = 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1447920" y="5486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所以 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2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是增根，原方程无解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4" name="Group 2"/>
          <p:cNvGrpSpPr/>
          <p:nvPr/>
        </p:nvGrpSpPr>
        <p:grpSpPr>
          <a:xfrm>
            <a:off x="396720" y="2921040"/>
            <a:ext cx="3527280" cy="952200"/>
            <a:chOff x="396720" y="2921040"/>
            <a:chExt cx="3527280" cy="952200"/>
          </a:xfrm>
        </p:grpSpPr>
        <p:grpSp>
          <p:nvGrpSpPr>
            <p:cNvPr id="375" name="Group 3"/>
            <p:cNvGrpSpPr/>
            <p:nvPr/>
          </p:nvGrpSpPr>
          <p:grpSpPr>
            <a:xfrm>
              <a:off x="1021320" y="2921040"/>
              <a:ext cx="834480" cy="952200"/>
              <a:chOff x="1021320" y="2921040"/>
              <a:chExt cx="834480" cy="952200"/>
            </a:xfrm>
          </p:grpSpPr>
          <p:sp>
            <p:nvSpPr>
              <p:cNvPr id="376" name="Line 4"/>
              <p:cNvSpPr/>
              <p:nvPr/>
            </p:nvSpPr>
            <p:spPr>
              <a:xfrm>
                <a:off x="1042560" y="3429000"/>
                <a:ext cx="64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7" name="Rectangle 5"/>
              <p:cNvSpPr/>
              <p:nvPr/>
            </p:nvSpPr>
            <p:spPr>
              <a:xfrm>
                <a:off x="1212480" y="2921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Rectangle 6"/>
              <p:cNvSpPr/>
              <p:nvPr/>
            </p:nvSpPr>
            <p:spPr>
              <a:xfrm>
                <a:off x="1021320" y="3352680"/>
                <a:ext cx="83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x-3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7"/>
            <p:cNvGrpSpPr/>
            <p:nvPr/>
          </p:nvGrpSpPr>
          <p:grpSpPr>
            <a:xfrm>
              <a:off x="2267640" y="2946240"/>
              <a:ext cx="834480" cy="927000"/>
              <a:chOff x="2267640" y="2946240"/>
              <a:chExt cx="834480" cy="927000"/>
            </a:xfrm>
          </p:grpSpPr>
          <p:sp>
            <p:nvSpPr>
              <p:cNvPr id="380" name="Line 8"/>
              <p:cNvSpPr/>
              <p:nvPr/>
            </p:nvSpPr>
            <p:spPr>
              <a:xfrm>
                <a:off x="2288880" y="3429000"/>
                <a:ext cx="64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1" name="Rectangle 9"/>
              <p:cNvSpPr/>
              <p:nvPr/>
            </p:nvSpPr>
            <p:spPr>
              <a:xfrm>
                <a:off x="2385720" y="2946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2" name="Rectangle 10"/>
              <p:cNvSpPr/>
              <p:nvPr/>
            </p:nvSpPr>
            <p:spPr>
              <a:xfrm>
                <a:off x="2267640" y="3352680"/>
                <a:ext cx="83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-2x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Text Box 11"/>
            <p:cNvSpPr/>
            <p:nvPr/>
          </p:nvSpPr>
          <p:spPr>
            <a:xfrm>
              <a:off x="396720" y="314172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2)           +            =4 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395280" y="1628640"/>
            <a:ext cx="2376360" cy="927000"/>
            <a:chOff x="395280" y="1628640"/>
            <a:chExt cx="2376360" cy="927000"/>
          </a:xfrm>
        </p:grpSpPr>
        <p:grpSp>
          <p:nvGrpSpPr>
            <p:cNvPr id="385" name="Group 13"/>
            <p:cNvGrpSpPr/>
            <p:nvPr/>
          </p:nvGrpSpPr>
          <p:grpSpPr>
            <a:xfrm>
              <a:off x="1042920" y="1628640"/>
              <a:ext cx="730440" cy="927000"/>
              <a:chOff x="1042920" y="1628640"/>
              <a:chExt cx="730440" cy="927000"/>
            </a:xfrm>
          </p:grpSpPr>
          <p:sp>
            <p:nvSpPr>
              <p:cNvPr id="386" name="Line 14"/>
              <p:cNvSpPr/>
              <p:nvPr/>
            </p:nvSpPr>
            <p:spPr>
              <a:xfrm>
                <a:off x="1042920" y="2111400"/>
                <a:ext cx="64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7" name="Rectangle 15"/>
              <p:cNvSpPr/>
              <p:nvPr/>
            </p:nvSpPr>
            <p:spPr>
              <a:xfrm>
                <a:off x="1212840" y="1628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8" name="Rectangle 16"/>
              <p:cNvSpPr/>
              <p:nvPr/>
            </p:nvSpPr>
            <p:spPr>
              <a:xfrm>
                <a:off x="1117080" y="2035080"/>
                <a:ext cx="65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-1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17"/>
            <p:cNvGrpSpPr/>
            <p:nvPr/>
          </p:nvGrpSpPr>
          <p:grpSpPr>
            <a:xfrm>
              <a:off x="2122560" y="1628640"/>
              <a:ext cx="649080" cy="880920"/>
              <a:chOff x="2122560" y="1628640"/>
              <a:chExt cx="649080" cy="880920"/>
            </a:xfrm>
          </p:grpSpPr>
          <p:sp>
            <p:nvSpPr>
              <p:cNvPr id="390" name="Line 18"/>
              <p:cNvSpPr/>
              <p:nvPr/>
            </p:nvSpPr>
            <p:spPr>
              <a:xfrm>
                <a:off x="2122560" y="2111400"/>
                <a:ext cx="649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1" name="Rectangle 19"/>
              <p:cNvSpPr/>
              <p:nvPr/>
            </p:nvSpPr>
            <p:spPr>
              <a:xfrm>
                <a:off x="2268000" y="1628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2" name="Rectangle 20"/>
              <p:cNvSpPr/>
              <p:nvPr/>
            </p:nvSpPr>
            <p:spPr>
              <a:xfrm>
                <a:off x="2268000" y="198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Text Box 21"/>
            <p:cNvSpPr/>
            <p:nvPr/>
          </p:nvSpPr>
          <p:spPr>
            <a:xfrm>
              <a:off x="395280" y="182088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1)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=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94" name="Group 22"/>
          <p:cNvGrpSpPr/>
          <p:nvPr/>
        </p:nvGrpSpPr>
        <p:grpSpPr>
          <a:xfrm>
            <a:off x="468360" y="260280"/>
            <a:ext cx="1871640" cy="914400"/>
            <a:chOff x="468360" y="260280"/>
            <a:chExt cx="1871640" cy="914400"/>
          </a:xfrm>
        </p:grpSpPr>
        <p:pic>
          <p:nvPicPr>
            <p:cNvPr id="395" name="Picture 23" descr="010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8716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24"/>
            <p:cNvSpPr/>
            <p:nvPr/>
          </p:nvSpPr>
          <p:spPr>
            <a:xfrm>
              <a:off x="539640" y="405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解方程</a:t>
              </a:r>
              <a:endParaRPr b="0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97" name="Text Box 25"/>
          <p:cNvSpPr/>
          <p:nvPr/>
        </p:nvSpPr>
        <p:spPr>
          <a:xfrm>
            <a:off x="7196400" y="260280"/>
            <a:ext cx="127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imes New Roman"/>
                <a:ea typeface="华文行楷"/>
              </a:rPr>
              <a:t>随堂练习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8" name="Group 26"/>
          <p:cNvGrpSpPr/>
          <p:nvPr/>
        </p:nvGrpSpPr>
        <p:grpSpPr>
          <a:xfrm>
            <a:off x="358920" y="4365720"/>
            <a:ext cx="8677080" cy="1632960"/>
            <a:chOff x="358920" y="4365720"/>
            <a:chExt cx="8677080" cy="1632960"/>
          </a:xfrm>
        </p:grpSpPr>
        <p:sp>
          <p:nvSpPr>
            <p:cNvPr id="399" name="Text Box 27"/>
            <p:cNvSpPr/>
            <p:nvPr/>
          </p:nvSpPr>
          <p:spPr>
            <a:xfrm>
              <a:off x="358920" y="4365720"/>
              <a:ext cx="8677080" cy="16329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2156"/>
                  </a:srgbClr>
                </a:gs>
                <a:gs pos="100000">
                  <a:srgbClr val="ffff99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Times New Roman"/>
                  <a:ea typeface="华文行楷"/>
                </a:rPr>
                <a:t>思考题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关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方程                           产生增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则常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值等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     ) 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)-2       (B)-1       (C ) 1        (D) 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00" name="Group 28"/>
            <p:cNvGrpSpPr/>
            <p:nvPr/>
          </p:nvGrpSpPr>
          <p:grpSpPr>
            <a:xfrm>
              <a:off x="2627280" y="4726080"/>
              <a:ext cx="2015640" cy="865800"/>
              <a:chOff x="2627280" y="4726080"/>
              <a:chExt cx="2015640" cy="865800"/>
            </a:xfrm>
          </p:grpSpPr>
          <p:grpSp>
            <p:nvGrpSpPr>
              <p:cNvPr id="401" name="Group 29"/>
              <p:cNvGrpSpPr/>
              <p:nvPr/>
            </p:nvGrpSpPr>
            <p:grpSpPr>
              <a:xfrm>
                <a:off x="2627280" y="4726080"/>
                <a:ext cx="720720" cy="820080"/>
                <a:chOff x="2627280" y="4726080"/>
                <a:chExt cx="720720" cy="820080"/>
              </a:xfrm>
            </p:grpSpPr>
            <p:sp>
              <p:nvSpPr>
                <p:cNvPr id="402" name="Line 30"/>
                <p:cNvSpPr/>
                <p:nvPr/>
              </p:nvSpPr>
              <p:spPr>
                <a:xfrm>
                  <a:off x="2627280" y="5157720"/>
                  <a:ext cx="72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31"/>
                <p:cNvSpPr/>
                <p:nvPr/>
              </p:nvSpPr>
              <p:spPr>
                <a:xfrm>
                  <a:off x="2693880" y="4726080"/>
                  <a:ext cx="58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-3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32"/>
                <p:cNvSpPr/>
                <p:nvPr/>
              </p:nvSpPr>
              <p:spPr>
                <a:xfrm>
                  <a:off x="2701800" y="5086440"/>
                  <a:ext cx="58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-1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33"/>
              <p:cNvGrpSpPr/>
              <p:nvPr/>
            </p:nvGrpSpPr>
            <p:grpSpPr>
              <a:xfrm>
                <a:off x="3851280" y="4726080"/>
                <a:ext cx="791640" cy="865800"/>
                <a:chOff x="3851280" y="4726080"/>
                <a:chExt cx="791640" cy="865800"/>
              </a:xfrm>
            </p:grpSpPr>
            <p:sp>
              <p:nvSpPr>
                <p:cNvPr id="406" name="Text Box 34"/>
                <p:cNvSpPr/>
                <p:nvPr/>
              </p:nvSpPr>
              <p:spPr>
                <a:xfrm>
                  <a:off x="3995280" y="51321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-1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Line 35"/>
                <p:cNvSpPr/>
                <p:nvPr/>
              </p:nvSpPr>
              <p:spPr>
                <a:xfrm>
                  <a:off x="3851280" y="5157720"/>
                  <a:ext cx="72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36"/>
                <p:cNvSpPr/>
                <p:nvPr/>
              </p:nvSpPr>
              <p:spPr>
                <a:xfrm>
                  <a:off x="4007520" y="4726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m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Text Box 37"/>
              <p:cNvSpPr/>
              <p:nvPr/>
            </p:nvSpPr>
            <p:spPr>
              <a:xfrm>
                <a:off x="3348000" y="48672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12:12:36Z</dcterms:created>
  <dc:creator>kejianyuan.com</dc:creator>
  <dc:description>kejianyuan.com</dc:description>
  <cp:keywords>kejianyuan.com</cp:keywords>
  <dc:language>en-US</dc:language>
  <cp:lastModifiedBy/>
  <dcterms:modified xsi:type="dcterms:W3CDTF">2014-09-10T16:19:03Z</dcterms:modified>
  <cp:revision>81</cp:revision>
  <dc:subject>人教版八年级数学（下）全套课件</dc:subject>
  <dc:title>人教版八年级数学（下）全套课件</dc:title>
</cp:coreProperties>
</file>